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A85B-A9CB-4D04-9021-E7FC5EEF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92F0-EF75-4E94-AC84-0539D0CB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D57-DFC8-4D2C-933B-F001CE54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B77F-7F20-43EE-A2CC-8FA4291B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171-ABD5-419A-8C6F-C06A5FEE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60E-EF86-4AC3-95B3-BEF44833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22D-3BF9-4A0A-8C83-60CF8C83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568-B6F9-40D0-AD3E-D4591B46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FC09-6CC7-42C6-83C7-D451DB4A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404-A3DC-493D-A00F-16AA438F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587-45E2-4E03-BD68-3A58658B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9E62-F79D-4550-A2D8-0A99E76B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CEC7-18BA-4501-A4D4-1EBA9AF88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slide" Target="slide19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slide" Target="slide19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1880" y="950760"/>
            <a:ext cx="8377200" cy="28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c00"/>
                </a:solidFill>
                <a:latin typeface="Times New Roman"/>
              </a:rPr>
              <a:t>A brit oktatási rendszer és a nemzeti alaptanterv bemutatása a magyar oktatási rendszer és tantervi szabályozás tükréb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43160" y="3997080"/>
            <a:ext cx="64008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84c00"/>
                </a:solidFill>
                <a:latin typeface="Times New Roman"/>
              </a:rPr>
              <a:t>Tóth P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984c00"/>
                </a:solidFill>
                <a:latin typeface="Times New Roman"/>
              </a:rPr>
              <a:t>Toth.Peter@bgk.bmf.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84c00"/>
                </a:solidFill>
                <a:latin typeface="Times New Roman"/>
              </a:rPr>
              <a:t>Bánki Donát Gépészmérnöki Főiskolai K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84c00"/>
                </a:solidFill>
                <a:latin typeface="Times New Roman"/>
              </a:rPr>
              <a:t>Mérnökpedagógiai Intéz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29520" y="626256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3. május 2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MFLOGO" descr=""/>
          <p:cNvPicPr/>
          <p:nvPr/>
        </p:nvPicPr>
        <p:blipFill>
          <a:blip r:embed=""/>
          <a:stretch/>
        </p:blipFill>
        <p:spPr>
          <a:xfrm>
            <a:off x="4064040" y="4829040"/>
            <a:ext cx="971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13000" y="811080"/>
            <a:ext cx="826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A két ország tantervi szabályozásának összehasonlítás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15760" y="1222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y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71520" y="1241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59480" y="1565280"/>
            <a:ext cx="0" cy="50641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71600" y="1413000"/>
            <a:ext cx="22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cc6600"/>
                </a:solidFill>
                <a:latin typeface="Times New Roman"/>
              </a:rPr>
              <a:t>készségcentrikus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1698480"/>
            <a:ext cx="2324160" cy="381240"/>
          </a:xfrm>
          <a:prstGeom prst="rect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4880" y="2395440"/>
            <a:ext cx="231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„kulcskészsége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68560" y="4529160"/>
            <a:ext cx="30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ondolkodási készség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17960" y="2781360"/>
            <a:ext cx="426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kommunikációs kész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a mennyiségek alkalmazásának készsé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az ICT alkalmazásának készsé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együttműködési kész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az önálló tanulás készsé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roblémamegoldó kész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16520" y="4915080"/>
            <a:ext cx="397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információfeldolgozási kész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érvelési (okfejtési) készsé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tájékozódási, kérdésfelvetési készsé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kreatív gondolkodási készsé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kritikai gondolkodási készsé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74680" y="2052720"/>
            <a:ext cx="43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antárgyakat átölelő készségfejleszt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4600" y="3519360"/>
            <a:ext cx="394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Készségfejlesztés elkülönült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a tantárgyakhoz kötötten történi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062800" y="639720"/>
            <a:ext cx="522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700" spc="-1" strike="noStrike">
                <a:solidFill>
                  <a:srgbClr val="3333cc"/>
                </a:solidFill>
                <a:latin typeface="Times New Roman"/>
              </a:rPr>
              <a:t>A National Curriculum tantárgya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280" y="1012680"/>
            <a:ext cx="828828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tantárgy neve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kulcsszakasz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ngol nyelv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atematik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rmészettudományo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chnika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Információs és komm. tech.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estnevelés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Történelem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öldrajz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Idegen nyelv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Művészete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Ének-zene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Állampolgári ismeretek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4191120"/>
                <a:tab algn="ctr" pos="4952880"/>
                <a:tab algn="ctr" pos="5715000"/>
                <a:tab algn="ctr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Elsajátítási szint a tanulók többségénél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1-3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2-5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3-7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G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8248680" y="5927760"/>
            <a:ext cx="819000" cy="873000"/>
          </a:xfrm>
          <a:custGeom>
            <a:avLst/>
            <a:gdLst>
              <a:gd name="textAreaLeft" fmla="*/ 145800 w 819000"/>
              <a:gd name="textAreaRight" fmla="*/ 673200 w 819000"/>
              <a:gd name="textAreaTop" fmla="*/ 145800 h 873000"/>
              <a:gd name="textAreaBottom" fmla="*/ 727200 h 873000"/>
            </a:gdLst>
            <a:ahLst/>
            <a:rect l="textAreaLeft" t="textAreaTop" r="textAreaRight" b="textAreaBottom"/>
            <a:pathLst>
              <a:path w="21600" h="23024">
                <a:moveTo>
                  <a:pt x="0" y="0"/>
                </a:moveTo>
                <a:lnTo>
                  <a:pt x="21600" y="0"/>
                </a:lnTo>
                <a:lnTo>
                  <a:pt x="21600" y="23024"/>
                </a:lnTo>
                <a:lnTo>
                  <a:pt x="0" y="23024"/>
                </a:lnTo>
                <a:close/>
              </a:path>
              <a:path fill="lightenLess" w="21600" h="23024">
                <a:moveTo>
                  <a:pt x="0" y="0"/>
                </a:moveTo>
                <a:lnTo>
                  <a:pt x="21600" y="0"/>
                </a:lnTo>
                <a:lnTo>
                  <a:pt x="17749" y="3851"/>
                </a:lnTo>
                <a:lnTo>
                  <a:pt x="3851" y="3851"/>
                </a:lnTo>
                <a:close/>
              </a:path>
              <a:path fill="darken" w="21600" h="23024">
                <a:moveTo>
                  <a:pt x="21600" y="0"/>
                </a:moveTo>
                <a:lnTo>
                  <a:pt x="21600" y="23024"/>
                </a:lnTo>
                <a:lnTo>
                  <a:pt x="17749" y="19173"/>
                </a:lnTo>
                <a:lnTo>
                  <a:pt x="17749" y="3851"/>
                </a:lnTo>
                <a:close/>
              </a:path>
              <a:path fill="darkenLess" w="21600" h="23024">
                <a:moveTo>
                  <a:pt x="21600" y="23024"/>
                </a:moveTo>
                <a:lnTo>
                  <a:pt x="0" y="23024"/>
                </a:lnTo>
                <a:lnTo>
                  <a:pt x="3851" y="19173"/>
                </a:lnTo>
                <a:lnTo>
                  <a:pt x="17749" y="19173"/>
                </a:lnTo>
                <a:close/>
              </a:path>
              <a:path fill="lighten" w="21600" h="23024">
                <a:moveTo>
                  <a:pt x="0" y="23024"/>
                </a:moveTo>
                <a:lnTo>
                  <a:pt x="0" y="0"/>
                </a:lnTo>
                <a:lnTo>
                  <a:pt x="3851" y="3851"/>
                </a:lnTo>
                <a:lnTo>
                  <a:pt x="3851" y="19173"/>
                </a:lnTo>
                <a:close/>
              </a:path>
              <a:path fill="darken" w="21600" h="23024">
                <a:moveTo>
                  <a:pt x="10800" y="6364"/>
                </a:moveTo>
                <a:lnTo>
                  <a:pt x="12705" y="8295"/>
                </a:lnTo>
                <a:lnTo>
                  <a:pt x="12705" y="7008"/>
                </a:lnTo>
                <a:lnTo>
                  <a:pt x="14017" y="7008"/>
                </a:lnTo>
                <a:lnTo>
                  <a:pt x="14017" y="9607"/>
                </a:lnTo>
                <a:lnTo>
                  <a:pt x="15947" y="11512"/>
                </a:lnTo>
                <a:lnTo>
                  <a:pt x="14725" y="11512"/>
                </a:lnTo>
                <a:lnTo>
                  <a:pt x="14725" y="16826"/>
                </a:lnTo>
                <a:lnTo>
                  <a:pt x="6875" y="16826"/>
                </a:lnTo>
                <a:lnTo>
                  <a:pt x="6875" y="11512"/>
                </a:lnTo>
                <a:lnTo>
                  <a:pt x="5653" y="11512"/>
                </a:lnTo>
                <a:close/>
              </a:path>
              <a:path fill="darkenLess" w="21600" h="23024">
                <a:moveTo>
                  <a:pt x="12705" y="8295"/>
                </a:moveTo>
                <a:lnTo>
                  <a:pt x="12705" y="7008"/>
                </a:lnTo>
                <a:lnTo>
                  <a:pt x="14017" y="7008"/>
                </a:lnTo>
                <a:lnTo>
                  <a:pt x="14017" y="9607"/>
                </a:lnTo>
                <a:close/>
              </a:path>
              <a:path fill="darkenLess" w="21600" h="23024">
                <a:moveTo>
                  <a:pt x="10118" y="14098"/>
                </a:moveTo>
                <a:lnTo>
                  <a:pt x="11482" y="14098"/>
                </a:lnTo>
                <a:lnTo>
                  <a:pt x="11482" y="16826"/>
                </a:lnTo>
                <a:lnTo>
                  <a:pt x="14725" y="16826"/>
                </a:lnTo>
                <a:lnTo>
                  <a:pt x="14725" y="11512"/>
                </a:lnTo>
                <a:lnTo>
                  <a:pt x="6875" y="11512"/>
                </a:lnTo>
                <a:lnTo>
                  <a:pt x="6875" y="16826"/>
                </a:lnTo>
                <a:lnTo>
                  <a:pt x="10118" y="1682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525800" y="24224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y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95440" y="52801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43080" y="806400"/>
            <a:ext cx="66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z oktatási rendszer kvalifikációs mátrix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kval1" descr=""/>
          <p:cNvPicPr/>
          <p:nvPr/>
        </p:nvPicPr>
        <p:blipFill>
          <a:blip r:embed="rId2"/>
          <a:stretch/>
        </p:blipFill>
        <p:spPr>
          <a:xfrm>
            <a:off x="252360" y="4206960"/>
            <a:ext cx="6356520" cy="2508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183" name="kval2" descr=""/>
          <p:cNvPicPr/>
          <p:nvPr/>
        </p:nvPicPr>
        <p:blipFill>
          <a:blip r:embed="rId3"/>
          <a:stretch/>
        </p:blipFill>
        <p:spPr>
          <a:xfrm>
            <a:off x="266760" y="1444680"/>
            <a:ext cx="6311880" cy="25812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11920" y="844560"/>
            <a:ext cx="45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t vizsgarendszer eleme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6960" y="152712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z 1. szakasz - a 2. osztály - vé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6960" y="3013200"/>
            <a:ext cx="49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2. szakasz vége - a 6. osztály - vé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7200" y="2090880"/>
            <a:ext cx="58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Írásbeli általános műveltségi vizsga, amelynek cé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 tanuló teljesítménybeli előmenetelének ellenőrzé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7200" y="3538440"/>
            <a:ext cx="58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Írásbeli általános műveltségi vizsga, amelynek cél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 tanuló teljesítménybeli előmenetelének ellenőrzé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6960" y="4460760"/>
            <a:ext cx="49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3. szakasz vége - a 9. osztály - vé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4800" y="4986360"/>
            <a:ext cx="891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Központi vizsga az alábbi tantárgyakból (értékelés négyfokozatú skálán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d60093"/>
                </a:solidFill>
                <a:latin typeface="Times New Roman"/>
              </a:rPr>
              <a:t>matematika, természettudományos tantárgyak [1992-tő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d60093"/>
                </a:solidFill>
                <a:latin typeface="Times New Roman"/>
              </a:rPr>
              <a:t>angol, technika [1993-tó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d60093"/>
                </a:solidFill>
                <a:latin typeface="Times New Roman"/>
              </a:rPr>
              <a:t>történelem, földrajz [1994-tő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311920" y="673200"/>
            <a:ext cx="45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t vizsgarendszer eleme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6840" y="1203480"/>
            <a:ext cx="84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4. szakasz - a 11. osztály - vé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GCSE -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eneral Certificate of Secondary Education -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LEVEL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7640" y="2033640"/>
            <a:ext cx="783576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A tankötelezettség vé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A középiskolai szakosodás alap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A National Curriculumra épül, az összes tantárgyból tehető vizs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Kötelező vizsgázni angolból, természettudományból, matematikábó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Választható min. három, max. hét tantárgybó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Elérhető eredmények: jól megfelelt (A</a:t>
            </a:r>
            <a:r>
              <a:rPr b="1" lang="hu-HU" sz="2000" spc="-1" strike="noStrike" baseline="30000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, B, C, D) - </a:t>
            </a:r>
            <a:r>
              <a:rPr b="1" lang="hu-HU" sz="2000" spc="-1" strike="noStrike">
                <a:solidFill>
                  <a:srgbClr val="d60093"/>
                </a:solidFill>
                <a:latin typeface="Times New Roman"/>
              </a:rPr>
              <a:t>LEVEL2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, megfelelt (E, F, G) -</a:t>
            </a:r>
            <a:r>
              <a:rPr b="1" lang="hu-HU" sz="2000" spc="-1" strike="noStrike">
                <a:solidFill>
                  <a:srgbClr val="d60093"/>
                </a:solidFill>
                <a:latin typeface="Times New Roman"/>
              </a:rPr>
              <a:t> LEVEL1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, nem felelt meg (U); míg matematikából jól megfelelt (A</a:t>
            </a:r>
            <a:r>
              <a:rPr b="1" lang="hu-HU" sz="2000" spc="-1" strike="noStrike" baseline="30000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, B, C), közepesen megfelelt (B, C, D, E), megfelelt (D, E, F, G), nem felelt meg (U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11920" y="673200"/>
            <a:ext cx="45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t vizsgarendszer eleme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2840" y="1336680"/>
            <a:ext cx="83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Times New Roman"/>
              </a:rPr>
              <a:t>GNVQ -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eneral National Vocational Qualification -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LEVEL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17640" y="1995480"/>
            <a:ext cx="78357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Két típusa van: „three-unit qualification”, „six-unit qualificatio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Előbbi két A</a:t>
            </a:r>
            <a:r>
              <a:rPr b="1" lang="hu-HU" sz="2000" spc="-1" strike="noStrike" baseline="30000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 - C értékű GCSE-vel, utóbbi négy A</a:t>
            </a:r>
            <a:r>
              <a:rPr b="1" lang="hu-HU" sz="2000" spc="-1" strike="noStrike" baseline="30000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 - C értékű GCSE-vel egyenértékű (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INTERMEDIATE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LEVEL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Előbbi két D - G értékű GCSE-vel, utóbbi négy D - G értékű GCSE-vel egyenértékű (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FOUNDATION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LEVEL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Választható szakterület, szakmacsoportok: művészetek, üzleti élet, szórakozás és turizmus, információs és kommunikációs technológia, épített környezet, st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311920" y="673200"/>
            <a:ext cx="45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t vizsgarendszer eleme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4280" y="124128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Key Skills qualification -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LEVEL 1-2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7640" y="1843200"/>
            <a:ext cx="78357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Három egységből áll: kommunikáció, „application of number”, információs és kommunikációs technoló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Kommunikáció LEVEL1 </a:t>
            </a:r>
            <a:r>
              <a:rPr b="1" lang="hu-HU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 Angol nyelv GCSE D-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„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Application of number” LEVEL1 </a:t>
            </a:r>
            <a:r>
              <a:rPr b="1" lang="hu-HU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  Matematika GCSE D-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Információs és kommunikációs technológia LEVEL1 </a:t>
            </a:r>
            <a:r>
              <a:rPr b="1" lang="hu-HU" sz="20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 : „three-unit qualification”, „six-unit qualification” GNVQ FOUNDATION LEVEL (inf. komm. tech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Ez érvényes a LEVEL 2 és LEVEL 3-re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311920" y="673200"/>
            <a:ext cx="45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t vizsgarendszer eleme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840" y="1241280"/>
            <a:ext cx="91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VQ - National Vocational (Occupational) Qualification -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VEL 1-2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240" y="1843200"/>
            <a:ext cx="82263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Valamilyen foglalkozáshoz kötődő, egységes kompetencia alapú képzé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GCSE megszerzése utáni szakképzés </a:t>
            </a:r>
            <a:r>
              <a:rPr b="1" lang="hu-HU" sz="20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1" lang="hu-HU" sz="2000" spc="-1" strike="noStrike">
                <a:solidFill>
                  <a:srgbClr val="3333cc"/>
                </a:solidFill>
                <a:latin typeface="Times New Roman"/>
              </a:rPr>
              <a:t> teljes idős képzés, részidős kép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furthe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8480" y="5024520"/>
            <a:ext cx="2018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űszaki és üzle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zakképesíté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33880" y="5024520"/>
            <a:ext cx="1892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ézműves ip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zakképesíté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83240" y="5043600"/>
            <a:ext cx="3035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reskedelmi és művésze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zakképesítése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600200" y="3772080"/>
            <a:ext cx="3314880" cy="12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33800" y="3772080"/>
            <a:ext cx="2190960" cy="127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190760" y="3790800"/>
            <a:ext cx="742680" cy="12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" y="5810400"/>
            <a:ext cx="245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T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usiness and Tech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ducational Counc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63320" y="5829480"/>
            <a:ext cx="197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G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City and Guild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London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55160" y="5867280"/>
            <a:ext cx="175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Royal Society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44960" y="4033800"/>
            <a:ext cx="4906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3 szintű szakképzések; 1-2 év időtartamú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311920" y="673200"/>
            <a:ext cx="45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brit vizsgarendszer eleme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720" y="1241280"/>
            <a:ext cx="66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CE - General Certificate of Education -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LEVEL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7640" y="1843200"/>
            <a:ext cx="78357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 felvételi vizsgával egyenértékű vizsg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árom, vagy hat tanegységből á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ét éves képzé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 három tantárgyból álló egységgel az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AS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szint, míg a hat tantárgyból álló egységgel a teljes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szint teljesíthető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 tanulók 35-40%-a tesz ilyen szintű vizsgá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9320" y="4460760"/>
            <a:ext cx="86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VCE - Advanced Vocational Certificate of Education -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LEVEL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17640" y="5062680"/>
            <a:ext cx="78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A General National Vocational Qualification 3. szint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7760" y="5842080"/>
            <a:ext cx="16804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tan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77720" y="5842080"/>
            <a:ext cx="16804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tan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92640" y="5842080"/>
            <a:ext cx="18327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tanegy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896000" y="5562360"/>
            <a:ext cx="0" cy="28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96000" y="5543640"/>
            <a:ext cx="3066840" cy="29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847520" y="5562720"/>
            <a:ext cx="3048120" cy="28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9720" y="6407280"/>
            <a:ext cx="263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gyenértékű GCE AS-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4720" y="639432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gyenértékű GCE A-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08640" y="637236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gyenértékű két GCE A-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57240" y="5889600"/>
            <a:ext cx="582480" cy="587520"/>
          </a:xfrm>
          <a:custGeom>
            <a:avLst/>
            <a:gdLst>
              <a:gd name="textAreaLeft" fmla="*/ 110880 w 582480"/>
              <a:gd name="textAreaRight" fmla="*/ 471600 w 582480"/>
              <a:gd name="textAreaTop" fmla="*/ 110880 h 587520"/>
              <a:gd name="textAreaBottom" fmla="*/ 476640 h 587520"/>
            </a:gdLst>
            <a:ahLst/>
            <a:rect l="textAreaLeft" t="textAreaTop" r="textAreaRight" b="textAreaBottom"/>
            <a:pathLst>
              <a:path w="21600" h="21787">
                <a:moveTo>
                  <a:pt x="0" y="0"/>
                </a:moveTo>
                <a:lnTo>
                  <a:pt x="21600" y="0"/>
                </a:lnTo>
                <a:lnTo>
                  <a:pt x="21600" y="21787"/>
                </a:lnTo>
                <a:lnTo>
                  <a:pt x="0" y="21787"/>
                </a:lnTo>
                <a:close/>
              </a:path>
              <a:path fill="lightenLess" w="21600" h="21787">
                <a:moveTo>
                  <a:pt x="0" y="0"/>
                </a:moveTo>
                <a:lnTo>
                  <a:pt x="21600" y="0"/>
                </a:lnTo>
                <a:lnTo>
                  <a:pt x="17478" y="4122"/>
                </a:lnTo>
                <a:lnTo>
                  <a:pt x="4122" y="4122"/>
                </a:lnTo>
                <a:close/>
              </a:path>
              <a:path fill="darken" w="21600" h="21787">
                <a:moveTo>
                  <a:pt x="21600" y="0"/>
                </a:moveTo>
                <a:lnTo>
                  <a:pt x="21600" y="21787"/>
                </a:lnTo>
                <a:lnTo>
                  <a:pt x="17478" y="17665"/>
                </a:lnTo>
                <a:lnTo>
                  <a:pt x="17478" y="4122"/>
                </a:lnTo>
                <a:close/>
              </a:path>
              <a:path fill="darkenLess" w="21600" h="21787">
                <a:moveTo>
                  <a:pt x="21600" y="21787"/>
                </a:moveTo>
                <a:lnTo>
                  <a:pt x="0" y="21787"/>
                </a:lnTo>
                <a:lnTo>
                  <a:pt x="4122" y="17665"/>
                </a:lnTo>
                <a:lnTo>
                  <a:pt x="17478" y="17665"/>
                </a:lnTo>
                <a:close/>
              </a:path>
              <a:path fill="lighten" w="21600" h="21787">
                <a:moveTo>
                  <a:pt x="0" y="21787"/>
                </a:moveTo>
                <a:lnTo>
                  <a:pt x="0" y="0"/>
                </a:lnTo>
                <a:lnTo>
                  <a:pt x="4122" y="4122"/>
                </a:lnTo>
                <a:lnTo>
                  <a:pt x="4122" y="17665"/>
                </a:lnTo>
                <a:close/>
              </a:path>
              <a:path fill="darken" w="21600" h="21787">
                <a:moveTo>
                  <a:pt x="10800" y="5947"/>
                </a:moveTo>
                <a:lnTo>
                  <a:pt x="12630" y="7802"/>
                </a:lnTo>
                <a:lnTo>
                  <a:pt x="12630" y="6565"/>
                </a:lnTo>
                <a:lnTo>
                  <a:pt x="13892" y="6565"/>
                </a:lnTo>
                <a:lnTo>
                  <a:pt x="13892" y="9063"/>
                </a:lnTo>
                <a:lnTo>
                  <a:pt x="15747" y="10893"/>
                </a:lnTo>
                <a:lnTo>
                  <a:pt x="14572" y="10893"/>
                </a:lnTo>
                <a:lnTo>
                  <a:pt x="14572" y="16001"/>
                </a:lnTo>
                <a:lnTo>
                  <a:pt x="7028" y="16001"/>
                </a:lnTo>
                <a:lnTo>
                  <a:pt x="7028" y="10893"/>
                </a:lnTo>
                <a:lnTo>
                  <a:pt x="5853" y="10893"/>
                </a:lnTo>
                <a:close/>
              </a:path>
              <a:path fill="darkenLess" w="21600" h="21787">
                <a:moveTo>
                  <a:pt x="12630" y="7802"/>
                </a:moveTo>
                <a:lnTo>
                  <a:pt x="12630" y="6565"/>
                </a:lnTo>
                <a:lnTo>
                  <a:pt x="13892" y="6565"/>
                </a:lnTo>
                <a:lnTo>
                  <a:pt x="13892" y="9063"/>
                </a:lnTo>
                <a:close/>
              </a:path>
              <a:path fill="darkenLess" w="21600" h="21787">
                <a:moveTo>
                  <a:pt x="10145" y="13379"/>
                </a:moveTo>
                <a:lnTo>
                  <a:pt x="11455" y="13379"/>
                </a:lnTo>
                <a:lnTo>
                  <a:pt x="11455" y="16001"/>
                </a:lnTo>
                <a:lnTo>
                  <a:pt x="14572" y="16001"/>
                </a:lnTo>
                <a:lnTo>
                  <a:pt x="14572" y="10893"/>
                </a:lnTo>
                <a:lnTo>
                  <a:pt x="7028" y="10893"/>
                </a:lnTo>
                <a:lnTo>
                  <a:pt x="7028" y="16001"/>
                </a:lnTo>
                <a:lnTo>
                  <a:pt x="10145" y="160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-64800" y="777960"/>
            <a:ext cx="927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.1. A két ország informatikai tanterveinek összehasonlítá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15760" y="1222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y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76120" y="1241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40" y="1862280"/>
            <a:ext cx="4547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Az informatika, mint művelődési terü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az általános műveltség rés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zámítástech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önyvtárhaszná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27720" y="1862280"/>
            <a:ext cx="46782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Az informatika, mint művelődési terü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az általános műveltség rés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„</a:t>
            </a: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kulcskészség” -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Information and Communication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60" y="1866960"/>
            <a:ext cx="4506840" cy="163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45000" y="1866960"/>
            <a:ext cx="4560840" cy="1638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360" y="3498840"/>
            <a:ext cx="4508640" cy="87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Times New Roman"/>
              </a:rPr>
              <a:t>Tantervi követelmények a 6-10. évfolyamr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Times New Roman"/>
              </a:rPr>
              <a:t>6-8. évf. - egység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Times New Roman"/>
              </a:rPr>
              <a:t>9-10. évf. iskolatípustól függő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45000" y="3498840"/>
            <a:ext cx="4560840" cy="871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Times New Roman"/>
              </a:rPr>
              <a:t>Tantervi követelmények az 1-11. évfolyamr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Times New Roman"/>
              </a:rPr>
              <a:t>1-11. évf. - non-core curricul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Times New Roman"/>
              </a:rPr>
              <a:t>2000. év végéig csak a 9. évf.-ig van kidolgozv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45000" y="4395960"/>
            <a:ext cx="4557600" cy="1923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„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ulcskészség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valifikációszintek alapján megado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smeret- és tevékenységrendsz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antárg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ulcsszakaszonként megado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smeret- és tevékenységrendsz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160" y="4395960"/>
            <a:ext cx="4506840" cy="161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velési-oktatási szakaszok alapján megadott cél- és követelményrendsz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Évfolyamonként megado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evékenységrendsz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émakörök és tartalma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2200" y="2138400"/>
            <a:ext cx="723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1. A magyar és a brit közoktatási rendszer összehasonlí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720" y="3576600"/>
            <a:ext cx="703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2. A két ország tantervi szabályozásának összehasonlí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5960" y="5253120"/>
            <a:ext cx="57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3. A két ország vizsgarendszerének bemutatá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0160" y="118116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Times New Roman"/>
              </a:rPr>
              <a:t>Az előadás tematikáj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7810560" y="2114640"/>
            <a:ext cx="704880" cy="533160"/>
          </a:xfrm>
          <a:custGeom>
            <a:avLst/>
            <a:gdLst>
              <a:gd name="textAreaLeft" fmla="*/ 109440 w 704880"/>
              <a:gd name="textAreaRight" fmla="*/ 595440 w 704880"/>
              <a:gd name="textAreaTop" fmla="*/ 109440 h 533160"/>
              <a:gd name="textAreaBottom" fmla="*/ 423720 h 533160"/>
            </a:gdLst>
            <a:ahLst/>
            <a:rect l="textAreaLeft" t="textAreaTop" r="textAreaRight" b="textAreaBottom"/>
            <a:pathLst>
              <a:path w="28552" h="21600">
                <a:moveTo>
                  <a:pt x="0" y="0"/>
                </a:moveTo>
                <a:lnTo>
                  <a:pt x="28552" y="0"/>
                </a:lnTo>
                <a:lnTo>
                  <a:pt x="28552" y="21600"/>
                </a:lnTo>
                <a:lnTo>
                  <a:pt x="0" y="21600"/>
                </a:lnTo>
                <a:close/>
              </a:path>
              <a:path fill="lightenLess" w="28552" h="21600">
                <a:moveTo>
                  <a:pt x="0" y="0"/>
                </a:moveTo>
                <a:lnTo>
                  <a:pt x="28552" y="0"/>
                </a:lnTo>
                <a:lnTo>
                  <a:pt x="24116" y="4436"/>
                </a:lnTo>
                <a:lnTo>
                  <a:pt x="4436" y="4436"/>
                </a:lnTo>
                <a:close/>
              </a:path>
              <a:path fill="darken" w="28552" h="21600">
                <a:moveTo>
                  <a:pt x="28552" y="0"/>
                </a:moveTo>
                <a:lnTo>
                  <a:pt x="28552" y="21600"/>
                </a:lnTo>
                <a:lnTo>
                  <a:pt x="24116" y="17164"/>
                </a:lnTo>
                <a:lnTo>
                  <a:pt x="24116" y="4436"/>
                </a:lnTo>
                <a:close/>
              </a:path>
              <a:path fill="darkenLess" w="28552" h="21600">
                <a:moveTo>
                  <a:pt x="28552" y="21600"/>
                </a:moveTo>
                <a:lnTo>
                  <a:pt x="0" y="21600"/>
                </a:lnTo>
                <a:lnTo>
                  <a:pt x="4436" y="17164"/>
                </a:lnTo>
                <a:lnTo>
                  <a:pt x="24116" y="17164"/>
                </a:lnTo>
                <a:close/>
              </a:path>
              <a:path fill="lighten" w="28552" h="21600">
                <a:moveTo>
                  <a:pt x="0" y="21600"/>
                </a:moveTo>
                <a:lnTo>
                  <a:pt x="0" y="0"/>
                </a:lnTo>
                <a:lnTo>
                  <a:pt x="4436" y="4436"/>
                </a:lnTo>
                <a:lnTo>
                  <a:pt x="4436" y="17164"/>
                </a:lnTo>
                <a:close/>
              </a:path>
              <a:path fill="darken" w="28552" h="21600">
                <a:moveTo>
                  <a:pt x="9533" y="6056"/>
                </a:moveTo>
                <a:lnTo>
                  <a:pt x="19020" y="10800"/>
                </a:lnTo>
                <a:lnTo>
                  <a:pt x="9533" y="155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7821720" y="3543480"/>
            <a:ext cx="704880" cy="533160"/>
          </a:xfrm>
          <a:custGeom>
            <a:avLst/>
            <a:gdLst>
              <a:gd name="textAreaLeft" fmla="*/ 109440 w 704880"/>
              <a:gd name="textAreaRight" fmla="*/ 595440 w 704880"/>
              <a:gd name="textAreaTop" fmla="*/ 109440 h 533160"/>
              <a:gd name="textAreaBottom" fmla="*/ 423720 h 533160"/>
            </a:gdLst>
            <a:ahLst/>
            <a:rect l="textAreaLeft" t="textAreaTop" r="textAreaRight" b="textAreaBottom"/>
            <a:pathLst>
              <a:path w="28552" h="21600">
                <a:moveTo>
                  <a:pt x="0" y="0"/>
                </a:moveTo>
                <a:lnTo>
                  <a:pt x="28552" y="0"/>
                </a:lnTo>
                <a:lnTo>
                  <a:pt x="28552" y="21600"/>
                </a:lnTo>
                <a:lnTo>
                  <a:pt x="0" y="21600"/>
                </a:lnTo>
                <a:close/>
              </a:path>
              <a:path fill="lightenLess" w="28552" h="21600">
                <a:moveTo>
                  <a:pt x="0" y="0"/>
                </a:moveTo>
                <a:lnTo>
                  <a:pt x="28552" y="0"/>
                </a:lnTo>
                <a:lnTo>
                  <a:pt x="24116" y="4436"/>
                </a:lnTo>
                <a:lnTo>
                  <a:pt x="4436" y="4436"/>
                </a:lnTo>
                <a:close/>
              </a:path>
              <a:path fill="darken" w="28552" h="21600">
                <a:moveTo>
                  <a:pt x="28552" y="0"/>
                </a:moveTo>
                <a:lnTo>
                  <a:pt x="28552" y="21600"/>
                </a:lnTo>
                <a:lnTo>
                  <a:pt x="24116" y="17164"/>
                </a:lnTo>
                <a:lnTo>
                  <a:pt x="24116" y="4436"/>
                </a:lnTo>
                <a:close/>
              </a:path>
              <a:path fill="darkenLess" w="28552" h="21600">
                <a:moveTo>
                  <a:pt x="28552" y="21600"/>
                </a:moveTo>
                <a:lnTo>
                  <a:pt x="0" y="21600"/>
                </a:lnTo>
                <a:lnTo>
                  <a:pt x="4436" y="17164"/>
                </a:lnTo>
                <a:lnTo>
                  <a:pt x="24116" y="17164"/>
                </a:lnTo>
                <a:close/>
              </a:path>
              <a:path fill="lighten" w="28552" h="21600">
                <a:moveTo>
                  <a:pt x="0" y="21600"/>
                </a:moveTo>
                <a:lnTo>
                  <a:pt x="0" y="0"/>
                </a:lnTo>
                <a:lnTo>
                  <a:pt x="4436" y="4436"/>
                </a:lnTo>
                <a:lnTo>
                  <a:pt x="4436" y="17164"/>
                </a:lnTo>
                <a:close/>
              </a:path>
              <a:path fill="darken" w="28552" h="21600">
                <a:moveTo>
                  <a:pt x="9533" y="6056"/>
                </a:moveTo>
                <a:lnTo>
                  <a:pt x="19020" y="10800"/>
                </a:lnTo>
                <a:lnTo>
                  <a:pt x="9533" y="155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7829640" y="5219640"/>
            <a:ext cx="704880" cy="533520"/>
          </a:xfrm>
          <a:custGeom>
            <a:avLst/>
            <a:gdLst>
              <a:gd name="textAreaLeft" fmla="*/ 109440 w 704880"/>
              <a:gd name="textAreaRight" fmla="*/ 595440 w 704880"/>
              <a:gd name="textAreaTop" fmla="*/ 109440 h 533520"/>
              <a:gd name="textAreaBottom" fmla="*/ 424080 h 533520"/>
            </a:gdLst>
            <a:ahLst/>
            <a:rect l="textAreaLeft" t="textAreaTop" r="textAreaRight" b="textAreaBottom"/>
            <a:pathLst>
              <a:path w="28533" h="21600">
                <a:moveTo>
                  <a:pt x="0" y="0"/>
                </a:moveTo>
                <a:lnTo>
                  <a:pt x="28533" y="0"/>
                </a:lnTo>
                <a:lnTo>
                  <a:pt x="28533" y="21600"/>
                </a:lnTo>
                <a:lnTo>
                  <a:pt x="0" y="21600"/>
                </a:lnTo>
                <a:close/>
              </a:path>
              <a:path fill="lightenLess" w="28533" h="21600">
                <a:moveTo>
                  <a:pt x="0" y="0"/>
                </a:moveTo>
                <a:lnTo>
                  <a:pt x="28533" y="0"/>
                </a:lnTo>
                <a:lnTo>
                  <a:pt x="24097" y="4436"/>
                </a:lnTo>
                <a:lnTo>
                  <a:pt x="4436" y="4436"/>
                </a:lnTo>
                <a:close/>
              </a:path>
              <a:path fill="darken" w="28533" h="21600">
                <a:moveTo>
                  <a:pt x="28533" y="0"/>
                </a:moveTo>
                <a:lnTo>
                  <a:pt x="28533" y="21600"/>
                </a:lnTo>
                <a:lnTo>
                  <a:pt x="24097" y="17164"/>
                </a:lnTo>
                <a:lnTo>
                  <a:pt x="24097" y="4436"/>
                </a:lnTo>
                <a:close/>
              </a:path>
              <a:path fill="darkenLess" w="28533" h="21600">
                <a:moveTo>
                  <a:pt x="28533" y="21600"/>
                </a:moveTo>
                <a:lnTo>
                  <a:pt x="0" y="21600"/>
                </a:lnTo>
                <a:lnTo>
                  <a:pt x="4436" y="17164"/>
                </a:lnTo>
                <a:lnTo>
                  <a:pt x="24097" y="17164"/>
                </a:lnTo>
                <a:close/>
              </a:path>
              <a:path fill="lighten" w="28533" h="21600">
                <a:moveTo>
                  <a:pt x="0" y="21600"/>
                </a:moveTo>
                <a:lnTo>
                  <a:pt x="0" y="0"/>
                </a:lnTo>
                <a:lnTo>
                  <a:pt x="4436" y="4436"/>
                </a:lnTo>
                <a:lnTo>
                  <a:pt x="4436" y="17164"/>
                </a:lnTo>
                <a:close/>
              </a:path>
              <a:path fill="darken" w="28533" h="21600">
                <a:moveTo>
                  <a:pt x="9523" y="6056"/>
                </a:moveTo>
                <a:lnTo>
                  <a:pt x="19010" y="10800"/>
                </a:lnTo>
                <a:lnTo>
                  <a:pt x="9523" y="155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0320" y="777960"/>
            <a:ext cx="856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.1.HU. A magyar informatikai kerettanterv szerkez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2520" y="1314360"/>
            <a:ext cx="87242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Nevelési-oktatási szakaszonként megfogalmazott általános cél- és követelményrendsz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1. nevelési feladato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- esztétikai készség fejlesz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- az informatika etikai és jogi szabályainak elsaját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- együttműködésre, csoportmunkára nev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- az önálló, alkotó munkára nev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2. oktatási feladato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- az alapvető informatikai ismeretek elsaját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- az informatikai eszközök (szoftverek, hardverek) használatán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jártasság és készség szintű elsajátít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- képességfejlesztés (vizuális figyelem, vizuális hosszútávú emlékeze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algoritmizált gondolkodás, problémamegoldó gondolkodás, stb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Ciklikusan felépülő tevékenységrendsz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Informatikai alapismeretek</a:t>
            </a: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Az operációs rendszer használ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Algoritmusok és adatok</a:t>
            </a: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Hálózati kommunikáci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Szöveges dokumentumkészítés</a:t>
            </a: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Táblázatkeze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5840"/>
                <a:tab algn="l" pos="4381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Adatbázis-készítés</a:t>
            </a: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ff00ff"/>
                </a:solidFill>
                <a:latin typeface="Times New Roman"/>
              </a:rPr>
              <a:t>Könyvtárhaszná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810560" y="1714680"/>
            <a:ext cx="285840" cy="3257280"/>
          </a:xfrm>
          <a:custGeom>
            <a:avLst/>
            <a:gdLst>
              <a:gd name="textAreaLeft" fmla="*/ 0 w 285840"/>
              <a:gd name="textAreaRight" fmla="*/ 103320 w 285840"/>
              <a:gd name="textAreaTop" fmla="*/ 84600 h 3257280"/>
              <a:gd name="textAreaBottom" fmla="*/ 3172680 h 32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6222800">
            <a:off x="6943320" y="2772360"/>
            <a:ext cx="32425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formatikai művelt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Informatikai társadal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00960" y="3067200"/>
            <a:ext cx="381240" cy="495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8364600" y="6058080"/>
          <a:ext cx="6840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64600" y="6058080"/>
                    <a:ext cx="6840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9960" y="777960"/>
            <a:ext cx="706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.1.GB. A brit informatika tanterv szerkez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3200" y="1481040"/>
            <a:ext cx="827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857160"/>
                <a:tab algn="ctr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valifikációs szi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ajátított ismeret és tevékenység rends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857160"/>
                <a:tab algn="ctr" pos="5048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1600" y="1409760"/>
            <a:ext cx="8237520" cy="533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1600" y="1943280"/>
            <a:ext cx="8245440" cy="1191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1143000"/>
                <a:tab algn="ctr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ormációk keresése, kiválasztá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143000"/>
                <a:tab algn="ctr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1-4. szint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z információ tárolása, előhívá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143000"/>
                <a:tab algn="ctr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információ-előállítási módok elsajátítá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1143000"/>
                <a:tab algn="ctr" pos="5334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z információ többféle megjeleníté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1432080"/>
            <a:ext cx="0" cy="171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86160" y="3238560"/>
            <a:ext cx="4000680" cy="3238560"/>
          </a:xfrm>
          <a:prstGeom prst="line">
            <a:avLst/>
          </a:prstGeom>
          <a:ln w="381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57200" y="3276720"/>
            <a:ext cx="3828960" cy="3219480"/>
          </a:xfrm>
          <a:prstGeom prst="line">
            <a:avLst/>
          </a:prstGeom>
          <a:ln w="381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6496200"/>
            <a:ext cx="7848720" cy="0"/>
          </a:xfrm>
          <a:prstGeom prst="line">
            <a:avLst/>
          </a:prstGeom>
          <a:ln w="7632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33560" y="6033960"/>
            <a:ext cx="6681600" cy="4597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z ismeretek szin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85800" y="5538960"/>
            <a:ext cx="5538960" cy="45972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 megértés szin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76560" y="5062680"/>
            <a:ext cx="4367160" cy="459720"/>
          </a:xfrm>
          <a:prstGeom prst="rect">
            <a:avLst/>
          </a:prstGeom>
          <a:noFill/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Az alkalmazás szin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66960" y="4567320"/>
            <a:ext cx="3157560" cy="459720"/>
          </a:xfrm>
          <a:prstGeom prst="rect">
            <a:avLst/>
          </a:prstGeom>
          <a:noFill/>
          <a:ln w="28440">
            <a:solidFill>
              <a:srgbClr val="341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1fcf"/>
                </a:solidFill>
                <a:latin typeface="Times New Roman"/>
              </a:rPr>
              <a:t>Az analízis szint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62320" y="4148280"/>
            <a:ext cx="21477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szintézis szint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400560" y="3282840"/>
            <a:ext cx="1828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84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Arial Black"/>
              </a:rPr>
              <a:t>Az önellenőrzés szintje</a:t>
            </a:r>
            <a:endParaRPr b="0" lang="en-US" sz="16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8344080" y="6039000"/>
          <a:ext cx="722160" cy="72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44080" y="6039000"/>
                    <a:ext cx="722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9880" y="803160"/>
            <a:ext cx="863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Times New Roman"/>
              </a:rPr>
              <a:t>3.2. A két ország informatikai tanterveinek összehasonlítá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0680" y="1736640"/>
            <a:ext cx="864864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ardver- és szoftverfüggetlen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15760" y="1222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y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76120" y="1241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5360" y="2205000"/>
            <a:ext cx="431964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önálló tantá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gazi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49680" y="2205000"/>
            <a:ext cx="431964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efiniált tantárgyi kapcso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gazi 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5360" y="2928960"/>
            <a:ext cx="43196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1fcf"/>
                </a:solidFill>
                <a:latin typeface="Times New Roman"/>
              </a:rPr>
              <a:t>az IT, mint eszkö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49680" y="2928960"/>
            <a:ext cx="43196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z ICT, mint móds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49680" y="3348000"/>
            <a:ext cx="431964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Meghatározza az adott tantárgy hatékony tanulásának feltétele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5360" y="3348000"/>
            <a:ext cx="431964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em foglalkozik az adott tantárgy tanulási sajátosságaiv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49680" y="4071960"/>
            <a:ext cx="431964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1fcf"/>
                </a:solidFill>
                <a:latin typeface="Times New Roman"/>
              </a:rPr>
              <a:t>Fogyatékos tanulók ismeretelsajátítási stratégi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5360" y="4071960"/>
            <a:ext cx="431964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1fcf"/>
                </a:solidFill>
                <a:latin typeface="Times New Roman"/>
              </a:rPr>
              <a:t>A tanterv nem tartalm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1fcf"/>
                </a:solidFill>
                <a:latin typeface="Times New Roman"/>
              </a:rPr>
              <a:t>ilyen utalások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49680" y="4795920"/>
            <a:ext cx="4319640" cy="100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yelvi alapkészség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(írás, olvasás, szóbeli kifejez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ejlesztése az adott tantárgyon belü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5360" y="4795920"/>
            <a:ext cx="4319640" cy="100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Nyelvi alapkészség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(írás, olvasás, szóbeli kifejez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ejlesztése az adott tantárgyon belü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49680" y="5824440"/>
            <a:ext cx="4319640" cy="100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1fcf"/>
                </a:solidFill>
                <a:latin typeface="Times New Roman"/>
              </a:rPr>
              <a:t>7+1 szintű képességfejlesztési célrendszer, az adott kulcsszakaszok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5360" y="5832360"/>
            <a:ext cx="4319640" cy="100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1fcf"/>
                </a:solidFill>
                <a:latin typeface="Times New Roman"/>
              </a:rPr>
              <a:t>Minimális követelményrendsz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1fcf"/>
                </a:solidFill>
                <a:latin typeface="Times New Roman"/>
              </a:rPr>
              <a:t>továbbhaladási feltételekke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1fcf"/>
                </a:solidFill>
                <a:latin typeface="Times New Roman"/>
              </a:rPr>
              <a:t>szintek nélkü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agyar3" descr=""/>
          <p:cNvPicPr/>
          <p:nvPr/>
        </p:nvPicPr>
        <p:blipFill>
          <a:blip r:embed="rId2"/>
          <a:stretch/>
        </p:blipFill>
        <p:spPr>
          <a:xfrm>
            <a:off x="173160" y="1200240"/>
            <a:ext cx="4186080" cy="54752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0" y="83196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A magyar közoktatási és szakképzési rends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33920" y="83988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A brit közoktatási és szakképzési rends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BRIT4" descr=""/>
          <p:cNvPicPr/>
          <p:nvPr/>
        </p:nvPicPr>
        <p:blipFill>
          <a:blip r:embed="rId3"/>
          <a:stretch/>
        </p:blipFill>
        <p:spPr>
          <a:xfrm>
            <a:off x="4545000" y="1184400"/>
            <a:ext cx="4419720" cy="548640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6520" y="72720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imary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7800" y="371160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ary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50800" y="990720"/>
          <a:ext cx="6114960" cy="2857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00" y="990720"/>
                    <a:ext cx="611496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50800" y="4022640"/>
          <a:ext cx="6114960" cy="2857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0800" y="4022640"/>
                    <a:ext cx="61149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232160" y="3029040"/>
            <a:ext cx="443880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ublic school - 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előkelő, zártkörű, gyak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bentlakásos középiskola (alapítványi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állami támogatás nélkül; közel 2.300 iskola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885840" y="2590560"/>
            <a:ext cx="34308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752640" y="4648320"/>
            <a:ext cx="476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25760" y="4838760"/>
            <a:ext cx="3445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az iskolák 20%-a katolik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(voluntary scho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(anglikán és római kat.), az ál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és az önkormányzat támogat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7800" y="85392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c5d2e"/>
                </a:solidFill>
                <a:latin typeface="Times New Roman"/>
              </a:rPr>
              <a:t>Secondary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30040" y="1450800"/>
            <a:ext cx="65224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285840">
              <a:spcAft>
                <a:spcPts val="2999"/>
              </a:spcAft>
              <a:buClr>
                <a:srgbClr val="8c5d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c5d2e"/>
                </a:solidFill>
                <a:latin typeface="Times New Roman"/>
              </a:rPr>
              <a:t>Comprehensive school - általános középisk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spcAft>
                <a:spcPts val="2999"/>
              </a:spcAft>
              <a:buClr>
                <a:srgbClr val="8c5d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c5d2e"/>
                </a:solidFill>
                <a:latin typeface="Times New Roman"/>
              </a:rPr>
              <a:t>Grammar school - gimnáz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85840">
              <a:spcAft>
                <a:spcPts val="2999"/>
              </a:spcAft>
              <a:buClr>
                <a:srgbClr val="8c5d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c5d2e"/>
                </a:solidFill>
                <a:latin typeface="Times New Roman"/>
              </a:rPr>
              <a:t>Secondary technical school - szakközépisk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8520" y="348300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zakképz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79440" y="4003560"/>
            <a:ext cx="683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440">
              <a:spcAft>
                <a:spcPts val="29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4 - 18 éves kor között -”Compacts” project az (magas színvonalú szakképzés) 1980-as évektő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90440">
              <a:spcAft>
                <a:spcPts val="29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16 - 18 éves kor között - furthe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8344080" y="6118200"/>
            <a:ext cx="704520" cy="644400"/>
          </a:xfrm>
          <a:custGeom>
            <a:avLst/>
            <a:gdLst>
              <a:gd name="textAreaLeft" fmla="*/ 153720 w 704520"/>
              <a:gd name="textAreaRight" fmla="*/ 550800 w 704520"/>
              <a:gd name="textAreaTop" fmla="*/ 153720 h 644400"/>
              <a:gd name="textAreaBottom" fmla="*/ 490680 h 644400"/>
            </a:gdLst>
            <a:ahLst/>
            <a:rect l="textAreaLeft" t="textAreaTop" r="textAreaRight" b="textAreaBottom"/>
            <a:pathLst>
              <a:path w="23614" h="21600">
                <a:moveTo>
                  <a:pt x="0" y="0"/>
                </a:moveTo>
                <a:lnTo>
                  <a:pt x="23614" y="0"/>
                </a:lnTo>
                <a:lnTo>
                  <a:pt x="23614" y="21600"/>
                </a:lnTo>
                <a:lnTo>
                  <a:pt x="0" y="21600"/>
                </a:lnTo>
                <a:close/>
              </a:path>
              <a:path fill="lightenLess" w="23614" h="21600">
                <a:moveTo>
                  <a:pt x="0" y="0"/>
                </a:moveTo>
                <a:lnTo>
                  <a:pt x="23614" y="0"/>
                </a:lnTo>
                <a:lnTo>
                  <a:pt x="18453" y="5161"/>
                </a:lnTo>
                <a:lnTo>
                  <a:pt x="5161" y="5161"/>
                </a:lnTo>
                <a:close/>
              </a:path>
              <a:path fill="darken" w="23614" h="21600">
                <a:moveTo>
                  <a:pt x="23614" y="0"/>
                </a:moveTo>
                <a:lnTo>
                  <a:pt x="23614" y="21600"/>
                </a:lnTo>
                <a:lnTo>
                  <a:pt x="18453" y="16439"/>
                </a:lnTo>
                <a:lnTo>
                  <a:pt x="18453" y="5161"/>
                </a:lnTo>
                <a:close/>
              </a:path>
              <a:path fill="darkenLess" w="23614" h="21600">
                <a:moveTo>
                  <a:pt x="23614" y="21600"/>
                </a:moveTo>
                <a:lnTo>
                  <a:pt x="0" y="21600"/>
                </a:lnTo>
                <a:lnTo>
                  <a:pt x="5161" y="16439"/>
                </a:lnTo>
                <a:lnTo>
                  <a:pt x="18453" y="16439"/>
                </a:lnTo>
                <a:close/>
              </a:path>
              <a:path fill="lighten" w="23614" h="21600">
                <a:moveTo>
                  <a:pt x="0" y="21600"/>
                </a:moveTo>
                <a:lnTo>
                  <a:pt x="0" y="0"/>
                </a:lnTo>
                <a:lnTo>
                  <a:pt x="5161" y="5161"/>
                </a:lnTo>
                <a:lnTo>
                  <a:pt x="5161" y="16439"/>
                </a:lnTo>
                <a:close/>
              </a:path>
              <a:path fill="darken" w="23614" h="21600">
                <a:moveTo>
                  <a:pt x="11807" y="6623"/>
                </a:moveTo>
                <a:lnTo>
                  <a:pt x="13353" y="8189"/>
                </a:lnTo>
                <a:lnTo>
                  <a:pt x="13353" y="7145"/>
                </a:lnTo>
                <a:lnTo>
                  <a:pt x="14418" y="7145"/>
                </a:lnTo>
                <a:lnTo>
                  <a:pt x="14418" y="9254"/>
                </a:lnTo>
                <a:lnTo>
                  <a:pt x="15984" y="10800"/>
                </a:lnTo>
                <a:lnTo>
                  <a:pt x="14992" y="10800"/>
                </a:lnTo>
                <a:lnTo>
                  <a:pt x="14992" y="15113"/>
                </a:lnTo>
                <a:lnTo>
                  <a:pt x="8622" y="15113"/>
                </a:lnTo>
                <a:lnTo>
                  <a:pt x="8622" y="10800"/>
                </a:lnTo>
                <a:lnTo>
                  <a:pt x="7630" y="10800"/>
                </a:lnTo>
                <a:close/>
              </a:path>
              <a:path fill="darkenLess" w="23614" h="21600">
                <a:moveTo>
                  <a:pt x="13353" y="8189"/>
                </a:moveTo>
                <a:lnTo>
                  <a:pt x="13353" y="7145"/>
                </a:lnTo>
                <a:lnTo>
                  <a:pt x="14418" y="7145"/>
                </a:lnTo>
                <a:lnTo>
                  <a:pt x="14418" y="9254"/>
                </a:lnTo>
                <a:close/>
              </a:path>
              <a:path fill="darkenLess" w="23614" h="21600">
                <a:moveTo>
                  <a:pt x="11254" y="12899"/>
                </a:moveTo>
                <a:lnTo>
                  <a:pt x="12360" y="12899"/>
                </a:lnTo>
                <a:lnTo>
                  <a:pt x="12360" y="15113"/>
                </a:lnTo>
                <a:lnTo>
                  <a:pt x="14992" y="15113"/>
                </a:lnTo>
                <a:lnTo>
                  <a:pt x="14992" y="10800"/>
                </a:lnTo>
                <a:lnTo>
                  <a:pt x="8622" y="10800"/>
                </a:lnTo>
                <a:lnTo>
                  <a:pt x="8622" y="15113"/>
                </a:lnTo>
                <a:lnTo>
                  <a:pt x="11254" y="1511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c5d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80600" y="887400"/>
            <a:ext cx="6703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700" spc="-1" strike="noStrike">
                <a:solidFill>
                  <a:srgbClr val="3333cc"/>
                </a:solidFill>
                <a:latin typeface="Times New Roman"/>
              </a:rPr>
              <a:t>A National Curriculum alapvető célkitűzései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cc"/>
                </a:solidFill>
                <a:latin typeface="Times New Roman"/>
              </a:rPr>
              <a:t>(2000-2002 között folyamatosan bevezet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9320" y="1700280"/>
            <a:ext cx="82609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0880" indent="-380880"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átjárható iskolarendszer biztosítása </a:t>
            </a:r>
            <a:r>
              <a:rPr b="1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 érvényes minden iskolatípus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egységes követelményrendszer megfogalmazá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a tanulók tudásának, képességeinek, személyiségének fejleszté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a követelmények széleskörűvé tét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75080" y="3889440"/>
            <a:ext cx="21650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önmegvalósí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6600">
            <a:off x="4465800" y="30600"/>
            <a:ext cx="438480" cy="7059600"/>
          </a:xfrm>
          <a:custGeom>
            <a:avLst/>
            <a:gdLst>
              <a:gd name="textAreaLeft" fmla="*/ 0 w 438480"/>
              <a:gd name="textAreaRight" fmla="*/ 158400 w 438480"/>
              <a:gd name="textAreaTop" fmla="*/ 183960 h 7059600"/>
              <a:gd name="textAreaBottom" fmla="*/ 6875640 h 705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1640" y="5070600"/>
            <a:ext cx="52556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tanulás fontosságának hangsúlyoz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49640" y="5985000"/>
            <a:ext cx="4725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z élethosszig tartó tanulás szere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67000" y="4876920"/>
            <a:ext cx="0" cy="135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67000" y="6229440"/>
            <a:ext cx="78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67000" y="5315040"/>
            <a:ext cx="49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726080" y="1424160"/>
            <a:ext cx="0" cy="53197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000" y="887400"/>
            <a:ext cx="826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A két ország tantervi szabályozásának összehasonlítás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34760" y="12985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y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23800" y="12985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1080" y="1755720"/>
            <a:ext cx="36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. A tantervi szabályozás rendsz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6760" y="3114720"/>
            <a:ext cx="3269880" cy="5205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mzeti alaptante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65760" y="2593800"/>
            <a:ext cx="2181600" cy="459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rettanterv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6600" y="217188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lyi tanterv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86280" y="2604960"/>
            <a:ext cx="4200480" cy="1026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emzeti alaptanterv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 típus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m mag típus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88080" y="3260880"/>
            <a:ext cx="4217760" cy="0"/>
          </a:xfrm>
          <a:prstGeom prst="line">
            <a:avLst/>
          </a:prstGeom>
          <a:ln w="2844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72160" y="3279600"/>
            <a:ext cx="0" cy="37800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74200" y="213984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lyi tanterv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89440"/>
            <a:ext cx="35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. A tantervi szabályozás szakasz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2590920"/>
            <a:ext cx="8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57560" y="367992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183200">
            <a:off x="3771360" y="2930400"/>
            <a:ext cx="16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özponti tanterv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4320" y="2590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24320" y="224784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324320" y="363852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3440" y="5889600"/>
            <a:ext cx="43815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333399"/>
                </a:solidFill>
                <a:latin typeface="Times New Roman"/>
              </a:rPr>
              <a:t>1-8. évf.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Egységes kerettanter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3440" y="5089680"/>
            <a:ext cx="4381560" cy="7340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333399"/>
                </a:solidFill>
                <a:latin typeface="Times New Roman"/>
              </a:rPr>
              <a:t>9-10. évf.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Iskolatípustól függő kerettanterv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3238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gimn.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zakközépisk.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zaki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3440" y="4648320"/>
            <a:ext cx="4381560" cy="368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hu-HU" sz="1800" spc="-1" strike="noStrike">
                <a:solidFill>
                  <a:srgbClr val="333399"/>
                </a:solidFill>
                <a:latin typeface="Times New Roman"/>
              </a:rPr>
              <a:t>11-12. évf.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cc0000"/>
                </a:solidFill>
                <a:latin typeface="Times New Roman"/>
              </a:rPr>
              <a:t>Iskolatípustól függő tanterv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0640" y="4210200"/>
            <a:ext cx="3524400" cy="368280"/>
          </a:xfrm>
          <a:prstGeom prst="rect">
            <a:avLst/>
          </a:prstGeom>
          <a:noFill/>
          <a:ln w="38160">
            <a:solidFill>
              <a:srgbClr val="7d7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hu-HU" sz="1800" spc="-1" strike="noStrike">
                <a:solidFill>
                  <a:srgbClr val="333399"/>
                </a:solidFill>
                <a:latin typeface="Times New Roman"/>
              </a:rPr>
              <a:t>13- évf.</a:t>
            </a: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cc0000"/>
                </a:solidFill>
                <a:latin typeface="Times New Roman"/>
              </a:rPr>
              <a:t>OKJ-re épülő tantervek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44960" y="5353200"/>
            <a:ext cx="395136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3399"/>
                </a:solidFill>
                <a:latin typeface="Times New Roman"/>
              </a:rPr>
              <a:t>1-11. évf.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Egysé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Nemzeti alaptant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44960" y="4233960"/>
            <a:ext cx="3924360" cy="10681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880"/>
                <a:tab algn="ctr" pos="1523880"/>
                <a:tab algn="ct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hu-HU" sz="1600" spc="-1" strike="noStrike">
                <a:solidFill>
                  <a:srgbClr val="333399"/>
                </a:solidFill>
                <a:latin typeface="Times New Roman"/>
              </a:rPr>
              <a:t>12-13. évf.</a:t>
            </a: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Kvalifikáció függő tanter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880"/>
                <a:tab algn="ctr" pos="1523880"/>
                <a:tab algn="ct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880"/>
                <a:tab algn="ctr" pos="1523880"/>
                <a:tab algn="ct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szakisk.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szakmai előisk.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emeltszintű is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880"/>
                <a:tab algn="ctr" pos="1523880"/>
                <a:tab algn="ct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NVQ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GNVQ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1400" spc="-1" strike="noStrike">
                <a:solidFill>
                  <a:srgbClr val="000000"/>
                </a:solidFill>
                <a:latin typeface="Times New Roman"/>
              </a:rPr>
              <a:t>G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2600" y="3714840"/>
            <a:ext cx="358128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52600" y="2133720"/>
            <a:ext cx="0" cy="158112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2600" y="2133720"/>
            <a:ext cx="354312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2133720"/>
            <a:ext cx="0" cy="158112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11760" y="3714840"/>
            <a:ext cx="433224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838760" y="2114280"/>
            <a:ext cx="0" cy="160020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38760" y="2095560"/>
            <a:ext cx="430524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0" y="2076480"/>
            <a:ext cx="0" cy="161928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 flipV="1">
            <a:off x="4602240" y="1564920"/>
            <a:ext cx="0" cy="54468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6120" y="811080"/>
            <a:ext cx="826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A két ország tantervi szabályozásának összehasonlítás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15760" y="1222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y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61960" y="1241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7175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. A tantervi típ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480" y="2109960"/>
            <a:ext cx="544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ff"/>
                </a:solidFill>
                <a:latin typeface="Times New Roman"/>
              </a:rPr>
              <a:t>nyitott curriculu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ff"/>
                </a:solidFill>
                <a:latin typeface="Times New Roman"/>
              </a:rPr>
              <a:t>core ill. non-core curriculum és local curricu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602240" y="2841120"/>
            <a:ext cx="0" cy="54468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640" y="2898720"/>
            <a:ext cx="31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. A tanterv érvényességi kö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4240" y="3348000"/>
            <a:ext cx="90914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ctr" pos="2190600"/>
                <a:tab algn="ctr" pos="6667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ff"/>
                </a:solidFill>
                <a:latin typeface="Times New Roman"/>
              </a:rPr>
              <a:t>Minden iskolatípusra, beleértve az egyházi, az alapítványi és a magán iskolákat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190600"/>
                <a:tab algn="ctr" pos="6667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1-8. évf. egységes tantervi köv. minden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Bizonyos tantárgyak vonatkozásá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190600"/>
                <a:tab algn="ctr" pos="6667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iskolatípusra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(anyanyelv, matematika, term. tud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190600"/>
                <a:tab algn="ctr" pos="6667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9-10. évf. iskolatípus függő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1-11. évf. egység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190600"/>
                <a:tab algn="ctr" pos="6667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a többi tantárgy vonatkozásá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2190600"/>
                <a:tab algn="ctr" pos="6667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cc6600"/>
                </a:solidFill>
                <a:latin typeface="Times New Roman"/>
              </a:rPr>
              <a:t>non-core curricu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02240" y="3905280"/>
            <a:ext cx="0" cy="270504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1080" y="518472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 A tananyag elrendezé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720" y="5234040"/>
            <a:ext cx="419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Műveltségi területek alapján - N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antárgyi felépítés - K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iklikus felép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8720" y="5519880"/>
            <a:ext cx="418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Tantárgyi felépítés-kulcsszakasz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Ciklikus felép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27480" y="811080"/>
            <a:ext cx="8267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Times New Roman"/>
              </a:rPr>
              <a:t>A két ország tantervi szabályozásának összehasonlítás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15760" y="1222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y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61960" y="12412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-3600" y="1717560"/>
            <a:ext cx="47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. A tanterv tartalmi és követelmény szerkez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54520" y="1393920"/>
            <a:ext cx="0" cy="54432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54520" y="2362320"/>
            <a:ext cx="0" cy="4267080"/>
          </a:xfrm>
          <a:prstGeom prst="line">
            <a:avLst/>
          </a:prstGeom>
          <a:ln w="572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1440" y="522288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. A követelmények jelle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45000" y="2014560"/>
            <a:ext cx="22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Szakaszos felép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9840" y="2433600"/>
            <a:ext cx="1201680" cy="100872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Alapfok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8000"/>
                </a:solidFill>
                <a:latin typeface="Times New Roman"/>
              </a:rPr>
              <a:t>nev.-ok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8000"/>
                </a:solidFill>
                <a:latin typeface="Times New Roman"/>
              </a:rPr>
              <a:t>szaka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44760" y="2433600"/>
            <a:ext cx="1370880" cy="1008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Középfok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ff"/>
                </a:solidFill>
                <a:latin typeface="Times New Roman"/>
              </a:rPr>
              <a:t>nev.-ok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ff"/>
                </a:solidFill>
                <a:latin typeface="Times New Roman"/>
              </a:rPr>
              <a:t>szaka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60360" y="2444760"/>
            <a:ext cx="1425960" cy="1008360"/>
          </a:xfrm>
          <a:prstGeom prst="rect">
            <a:avLst/>
          </a:prstGeom>
          <a:solidFill>
            <a:srgbClr val="ffffcc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Szakképz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szakas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85000" y="2462040"/>
            <a:ext cx="333000" cy="5806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42200" y="2462040"/>
            <a:ext cx="333000" cy="5806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37520" y="2462040"/>
            <a:ext cx="333000" cy="5806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4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9400" y="2462040"/>
            <a:ext cx="333000" cy="580680"/>
          </a:xfrm>
          <a:prstGeom prst="rect">
            <a:avLst/>
          </a:prstGeom>
          <a:noFill/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Times New Roman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35320" y="3176640"/>
            <a:ext cx="1837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kulcsszakasz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ált.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alapműv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91040" y="2381400"/>
            <a:ext cx="1886040" cy="167616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6960" y="3519360"/>
            <a:ext cx="231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általános műveltsé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1360" y="2362320"/>
            <a:ext cx="2819520" cy="1695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03360" y="2381400"/>
            <a:ext cx="178560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Times New Roman"/>
              </a:rPr>
              <a:t>A továbbtanul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Times New Roman"/>
              </a:rPr>
              <a:t>megalapozá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Times New Roman"/>
              </a:rPr>
              <a:t>szakas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53400" y="3371760"/>
            <a:ext cx="19620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Times New Roman"/>
              </a:rPr>
              <a:t>Szakképzés szakas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13000" y="4191120"/>
            <a:ext cx="411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követelmények a kulcsszakaszok vég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GSCE a 4. kulcsszakasz vég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GCE a továbbtanulás megal. sz. vég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szakmai  vizs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200" y="4191120"/>
            <a:ext cx="441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alapműveltségi vizsga a középfok közep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érettségi vizsga a középfok végé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szakmai vizs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1480" y="5581800"/>
            <a:ext cx="402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008000"/>
                </a:solidFill>
                <a:latin typeface="Times New Roman"/>
              </a:rPr>
              <a:t>ismeretcentrikusság - N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008000"/>
                </a:solidFill>
                <a:latin typeface="Times New Roman"/>
              </a:rPr>
              <a:t>készség- és képességcentrikusság - 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008000"/>
                </a:solidFill>
                <a:latin typeface="Times New Roman"/>
              </a:rPr>
              <a:t>személyiségfejlesz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48640" y="5562720"/>
            <a:ext cx="37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elérési célok ---- elsajátítási szint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cc6600"/>
                </a:solidFill>
                <a:latin typeface="Times New Roman"/>
              </a:rPr>
              <a:t>tanuláscentrikus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cc6600"/>
                </a:solidFill>
                <a:latin typeface="Times New Roman"/>
              </a:rPr>
              <a:t>készségcentrikus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6153120"/>
            <a:ext cx="2324160" cy="380880"/>
          </a:xfrm>
          <a:prstGeom prst="rect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53360" y="6515280"/>
            <a:ext cx="876240" cy="18720"/>
          </a:xfrm>
          <a:prstGeom prst="line">
            <a:avLst/>
          </a:prstGeom>
          <a:ln w="38160">
            <a:solidFill>
              <a:srgbClr val="00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9960" y="57240"/>
            <a:ext cx="8398080" cy="642600"/>
          </a:xfrm>
          <a:prstGeom prst="rect">
            <a:avLst/>
          </a:prstGeom>
          <a:gradFill rotWithShape="0">
            <a:gsLst>
              <a:gs pos="0">
                <a:srgbClr val="feeed0"/>
              </a:gs>
              <a:gs pos="100000">
                <a:srgbClr val="ffe7b7"/>
              </a:gs>
            </a:gsLst>
            <a:lin ang="5400000"/>
          </a:gradFill>
          <a:ln w="9360">
            <a:solidFill>
              <a:srgbClr val="98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yar Pedagógiai Társasá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r" pos="80964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Összehasonlító Pedagógiai Szakosztá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3T19:50:03Z</dcterms:created>
  <dc:creator>Tóth Péter</dc:creator>
  <dc:description/>
  <dc:language>en-US</dc:language>
  <cp:lastModifiedBy>tptt</cp:lastModifiedBy>
  <cp:lastPrinted>2000-05-25T05:13:52Z</cp:lastPrinted>
  <dcterms:modified xsi:type="dcterms:W3CDTF">2003-05-19T20:41:44Z</dcterms:modified>
  <cp:revision>53</cp:revision>
  <dc:subject/>
  <dc:title>Az informatikaoktatás tantervi szabályozásának európai vetületei Magyarország, Nagy-Britannia</dc:title>
</cp:coreProperties>
</file>